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1EA-7E68-4453-9125-C5DEBA0E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042-2987-4459-A679-4BDDF182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C4E-7FE3-45F5-8B9F-9395FC89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960-863E-47EE-8D70-A315279A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815-D91C-4D2D-8544-537FE4A6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66B-2FDC-4E8C-82BA-7D39C708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475-725B-45BF-A6C3-C7521B9D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F96-5899-4FD3-8024-EFAF4406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1DA-2EF8-40E8-AA87-72D5A921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18A-D387-4916-899D-CECEAD95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47F7-39D3-409A-B653-9CBA3222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0A7-9ECD-4202-BFCC-509590D9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3295-BBF5-452E-B82C-FA1CE5689955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594360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24360" y="594360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24360" y="357336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724360" y="126828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00000" y="3573360"/>
            <a:ext cx="104148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900000" y="1268280"/>
            <a:ext cx="103824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65300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465300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34936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34936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>
            <a:grayscl/>
            <a:lum contrast="72000"/>
          </a:blip>
          <a:stretch/>
        </p:blipFill>
        <p:spPr>
          <a:xfrm>
            <a:off x="4716360" y="2708280"/>
            <a:ext cx="1181160" cy="1155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>
            <a:grayscl/>
            <a:lum contrast="72000"/>
          </a:blip>
          <a:stretch/>
        </p:blipFill>
        <p:spPr>
          <a:xfrm>
            <a:off x="0" y="5013360"/>
            <a:ext cx="1181160" cy="115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>
            <a:grayscl/>
            <a:lum contrast="72000"/>
          </a:blip>
          <a:stretch/>
        </p:blipFill>
        <p:spPr>
          <a:xfrm>
            <a:off x="4716360" y="5013360"/>
            <a:ext cx="1181160" cy="115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42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 Black"/>
              </a:rPr>
              <a:t>Plus de portable pour les réfugié(e)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0"/>
            <a:ext cx="42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 Black"/>
              </a:rPr>
              <a:t>Plus de portable pour les réfugié(e)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404640"/>
            <a:ext cx="252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Le groupe de défense des droits de l‘homme augenauf dénonce cette exclusion de plus de 60‘000 personnes et organise après le succès de la première action d‘enregistrement une deuxième action 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0">
            <a:grayscl/>
            <a:lum contrast="72000"/>
          </a:blip>
          <a:stretch/>
        </p:blipFill>
        <p:spPr>
          <a:xfrm>
            <a:off x="4716360" y="333360"/>
            <a:ext cx="1181160" cy="115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1">
            <a:grayscl/>
            <a:lum contrast="72000"/>
          </a:blip>
          <a:stretch/>
        </p:blipFill>
        <p:spPr>
          <a:xfrm>
            <a:off x="0" y="2637000"/>
            <a:ext cx="1181160" cy="115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2">
            <a:grayscl/>
            <a:lum contrast="72000"/>
          </a:blip>
          <a:stretch/>
        </p:blipFill>
        <p:spPr>
          <a:xfrm>
            <a:off x="0" y="333360"/>
            <a:ext cx="1181160" cy="1152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08000" y="2708280"/>
            <a:ext cx="252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Le groupe de défense des droits de l‘homme augenauf dénonce cette exclusion de plus de 60‘000 personnes et organise après le succès de la première action d‘enregistrement une deuxième action 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2920" y="404640"/>
            <a:ext cx="252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Le groupe de défense des droits de l‘homme augenauf dénonce cette exclusion de plus de 60‘000 personnes et organise après le succès de la première action d‘enregistrement une deuxième action 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22920" y="2708280"/>
            <a:ext cx="252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Le groupe de défense des droits de l‘homme augenauf dénonce cette exclusion de plus de 60‘000 personnes et organise après le succès de la première action d‘enregistrement une deuxième action 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2920" y="5013360"/>
            <a:ext cx="252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Le groupe de défense des droits de l‘homme augenauf dénonce cette exclusion de plus de 60‘000 personnes et organise après le succès de la première action d‘enregistrement une deuxième action 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5013360"/>
            <a:ext cx="252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Le groupe de défense des droits de l‘homme augenauf dénonce cette exclusion de plus de 60‘000 personnes et organise après le succès de la première action d‘enregistrement une deuxième action 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653000"/>
            <a:ext cx="42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 Black"/>
              </a:rPr>
              <a:t>Plus de portable pour les réfugié(e)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49360"/>
            <a:ext cx="42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 Black"/>
              </a:rPr>
              <a:t>Plus de portable pour les réfugié(e)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16360" y="2421000"/>
            <a:ext cx="42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 Black"/>
              </a:rPr>
              <a:t>Plus de portable pour les réfugié(e)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4653000"/>
            <a:ext cx="42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 Black"/>
              </a:rPr>
              <a:t>Plus de portable pour les réfugié(e)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2:08:18Z</dcterms:created>
  <dc:creator> pc</dc:creator>
  <dc:description/>
  <dc:language>en-US</dc:language>
  <cp:lastModifiedBy> pc</cp:lastModifiedBy>
  <dcterms:modified xsi:type="dcterms:W3CDTF">2004-09-29T19:28:17Z</dcterms:modified>
  <cp:revision>13</cp:revision>
  <dc:subject/>
  <dc:title>Slide 1</dc:title>
</cp:coreProperties>
</file>