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3F5-C0FE-47DC-830F-5EEBB0F9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735-774A-4DAE-82CF-F0370AAD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934-9D31-4B47-8F99-F6A247B3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F46-CBD0-45FD-8FF1-55F973A2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8DF6-37B5-4EFB-9D36-1643621A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8AF-F1C8-4045-B897-38EA0D6D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10F-5715-4407-8067-949B0C2A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47C-444D-4029-B9D2-234AE53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33E-80BA-48FF-846A-599E419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DCB-9980-4A24-A55D-3DAFA3BE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968-884C-4965-AE77-C3205D8A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11C4-FBE9-4440-A9A1-2B3408DF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99A5-E3C4-4C5E-B216-C0CB13485E8C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4360" y="594360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24360" y="357336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724360" y="1268280"/>
            <a:ext cx="103824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00000" y="3573360"/>
            <a:ext cx="104148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900000" y="1268280"/>
            <a:ext cx="103824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3280" y="465300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34936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4500720" cy="220500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7">
            <a:grayscl/>
            <a:lum contrast="72000"/>
          </a:blip>
          <a:stretch/>
        </p:blipFill>
        <p:spPr>
          <a:xfrm>
            <a:off x="4716360" y="270828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>
            <a:grayscl/>
            <a:lum contrast="72000"/>
          </a:blip>
          <a:stretch/>
        </p:blipFill>
        <p:spPr>
          <a:xfrm>
            <a:off x="0" y="5013360"/>
            <a:ext cx="1181160" cy="115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>
            <a:grayscl/>
            <a:lum contrast="72000"/>
          </a:blip>
          <a:stretch/>
        </p:blipFill>
        <p:spPr>
          <a:xfrm>
            <a:off x="4716360" y="5013360"/>
            <a:ext cx="1181160" cy="115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54936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0">
            <a:grayscl/>
            <a:lum contrast="72000"/>
          </a:blip>
          <a:stretch/>
        </p:blipFill>
        <p:spPr>
          <a:xfrm>
            <a:off x="4716360" y="333360"/>
            <a:ext cx="1181160" cy="1152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>
            <a:grayscl/>
            <a:lum contrast="72000"/>
          </a:blip>
          <a:stretch/>
        </p:blipFill>
        <p:spPr>
          <a:xfrm>
            <a:off x="0" y="2637000"/>
            <a:ext cx="1181160" cy="1152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>
            <a:grayscl/>
            <a:lum contrast="72000"/>
          </a:blip>
          <a:stretch/>
        </p:blipFill>
        <p:spPr>
          <a:xfrm>
            <a:off x="0" y="333360"/>
            <a:ext cx="1181160" cy="115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2920" y="508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270828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04000" y="40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5084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2852640"/>
            <a:ext cx="252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 Black"/>
              </a:rPr>
              <a:t>The Human Rights group augenauf is opposing this social exclusion of more than 60‘000 people. Therefore we organize a second public event to register the mobiles of refug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46530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6530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2349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349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 Black"/>
              </a:rPr>
              <a:t>No more mobiles for refuge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2:08:18Z</dcterms:created>
  <dc:creator> pc</dc:creator>
  <dc:description/>
  <dc:language>en-US</dc:language>
  <cp:lastModifiedBy> pc</cp:lastModifiedBy>
  <dcterms:modified xsi:type="dcterms:W3CDTF">2004-09-29T20:03:38Z</dcterms:modified>
  <cp:revision>15</cp:revision>
  <dc:subject/>
  <dc:title>Slide 1</dc:title>
</cp:coreProperties>
</file>