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3F3-D2D9-4143-B7D0-E1A3C8A9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E31-D414-42D4-A93A-D854E025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75A-C429-464F-8A66-97E2747C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A75-3CFD-4409-BD83-1C52FFD0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4F8-73D2-432A-9506-0E66A791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FBB-9781-49CB-BE50-5F4CC54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347-C9CB-493C-882B-33A43A68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264-C487-42D9-9A32-00F82F4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D73-5E6F-47B4-A0E1-C489837B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CC1-BD93-41FA-BD29-BB4A2B4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5B6-219F-4354-AE5A-5D9367C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3FE-77F3-4A3C-BF3B-6F37A8F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097A-0078-4E54-A4EC-F4F928153AEA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653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234936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4936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4653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 Black"/>
              </a:rPr>
              <a:t>Kein Handy mehr für Flüchtlin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62064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78136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15772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2920" y="515772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2997360"/>
            <a:ext cx="2520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2920" y="549360"/>
            <a:ext cx="25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Die Menschenrechtsgruppe augenauf protestiert gegen diese Ausgrenzung von über 60‘000 Menschen und organisiert nach dem grossen Erfolg der ersten Registrierungsaktion noch eine zweite Ak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29T18:10:21Z</dcterms:modified>
  <cp:revision>11</cp:revision>
  <dc:subject/>
  <dc:title>Slide 1</dc:title>
</cp:coreProperties>
</file>